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"/>
          <p:cNvGraphicFramePr/>
          <p:nvPr/>
        </p:nvGraphicFramePr>
        <p:xfrm>
          <a:off x="0" y="239760"/>
          <a:ext cx="6858000" cy="86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9760"/>
                    <a:ext cx="6858000" cy="86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-115920" y="88920"/>
          <a:ext cx="7093080" cy="896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5920" y="88920"/>
                    <a:ext cx="7093080" cy="89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584600"/>
            <a:ext cx="113796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65840" y="7002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1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022400"/>
            <a:ext cx="173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rden City Food Service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98 W. Harding S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rden City, GA 314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43720" y="1617840"/>
            <a:ext cx="173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91st MECH  IN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N: 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45520" y="2255760"/>
            <a:ext cx="169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OUND BEEF 80% L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45960" y="223668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 L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97920" y="223668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89 l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70960" y="2236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4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04480" y="38419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 28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8880" y="405144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99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28680" y="4370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9472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67680" y="5318280"/>
            <a:ext cx="355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601 111011.00 - 26EB SDRN/A141 S09076 $99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17400" y="578340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J.P. H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28600" y="601992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NING FACILITY OFIC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31840" y="604512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1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06760" y="63133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87680" y="627696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99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71240" y="6904080"/>
            <a:ext cx="69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. EL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74280" y="6912000"/>
            <a:ext cx="71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M. El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7600" y="696276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1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43720" y="267984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LK 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49920" y="2679840"/>
            <a:ext cx="56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G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4040" y="268452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10 g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70960" y="267984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3480" y="3184560"/>
            <a:ext cx="1477800" cy="550800"/>
          </a:xfrm>
          <a:prstGeom prst="rect">
            <a:avLst/>
          </a:prstGeom>
          <a:solidFill>
            <a:srgbClr val="cece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AK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739152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99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760428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99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32640" y="716292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3240" y="7620120"/>
            <a:ext cx="13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Cory, LTC, FC, 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9400" y="7772400"/>
            <a:ext cx="49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.E.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65840" y="7002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1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040" y="1022400"/>
            <a:ext cx="159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stinghouse Lighting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1 W. Broa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llas TX 754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43720" y="1617840"/>
            <a:ext cx="173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91st MECH  IN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N: 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45520" y="225576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TENTION C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74480" y="2236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98280" y="22366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70960" y="2236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5.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04480" y="38419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 21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8520" y="405144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250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28680" y="4370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9472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67320" y="5318280"/>
            <a:ext cx="361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 - 26EB SDRN/A141 S09076 $250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20280" y="578340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J. Kenne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27160" y="6019920"/>
            <a:ext cx="134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LY SERGE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31840" y="604512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2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06760" y="63133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87680" y="627696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250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72680" y="69040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A. LIT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03080" y="6912000"/>
            <a:ext cx="77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W.A. Lit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7600" y="696276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2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44800" y="2465280"/>
            <a:ext cx="15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GHT BULBS, 60 W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66560" y="2465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85320" y="24652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56560" y="2479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44080" y="2679840"/>
            <a:ext cx="110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N, ELECT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66560" y="2679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42120" y="268452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99320" y="267984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9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3480" y="3184560"/>
            <a:ext cx="1477800" cy="550800"/>
          </a:xfrm>
          <a:prstGeom prst="rect">
            <a:avLst/>
          </a:prstGeom>
          <a:solidFill>
            <a:srgbClr val="cece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AK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19720" y="4572000"/>
            <a:ext cx="113796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33720" y="739152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250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760428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250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32640" y="716292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3240" y="7620120"/>
            <a:ext cx="13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Cory, LTC, FC, 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59400" y="7772400"/>
            <a:ext cx="49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.E.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24400" y="4584600"/>
            <a:ext cx="985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65840" y="7002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1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57400" y="1022400"/>
            <a:ext cx="12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nford Brother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1 Que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ncinnati OH 451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45520" y="1674720"/>
            <a:ext cx="1785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st FORWARD SUPPORT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45720" y="2255760"/>
            <a:ext cx="167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NTAL OF GENER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89160" y="2236680"/>
            <a:ext cx="50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97920" y="2236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013720" y="22366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2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04840" y="3841920"/>
            <a:ext cx="161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 5 Jul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8520" y="405144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12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58480" y="439884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%10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9472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67320" y="5318280"/>
            <a:ext cx="361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 - 25CZ SDRN/A141 S09076 $112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08760" y="5783400"/>
            <a:ext cx="78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M. Philli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25360" y="6019920"/>
            <a:ext cx="9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BO 1ST F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31840" y="604512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2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73040" y="690408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e Attac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42840" y="2465280"/>
            <a:ext cx="21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ERIOD OF RENTAL: 24-28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18240" y="4694400"/>
            <a:ext cx="64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65240" y="7432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3480" y="3184560"/>
            <a:ext cx="1477800" cy="550800"/>
          </a:xfrm>
          <a:prstGeom prst="rect">
            <a:avLst/>
          </a:prstGeom>
          <a:solidFill>
            <a:srgbClr val="cece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3808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AK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33720" y="739152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112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760428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112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32640" y="716292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83240" y="7620120"/>
            <a:ext cx="13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Cory, LTC, FC, 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59400" y="7772400"/>
            <a:ext cx="49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.E.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40280" y="716292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590920" y="6019920"/>
            <a:ext cx="4190760" cy="1066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7560" y="912960"/>
            <a:ext cx="1677960" cy="500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FORD BROTHERS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01 QUEENS A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INCINNATI, OH   4513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90160" y="1522440"/>
            <a:ext cx="714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LD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90880" y="1827360"/>
            <a:ext cx="178020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TN: 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8760" y="768240"/>
            <a:ext cx="280656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79880" y="836640"/>
            <a:ext cx="2415600" cy="10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UMBER:  701345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VOICE    30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RDER      DAFI01-**-M-1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UMBER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38560" y="106668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38560" y="144792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38560" y="182880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07880" y="2371680"/>
            <a:ext cx="13075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OICE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ST APPEAR O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.O., PACK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IPS &amp; PACKAG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STOMER N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91000" y="2814480"/>
            <a:ext cx="847800" cy="22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A1129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9240" y="2894040"/>
            <a:ext cx="23958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IP TO:    UNITED STATES AR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ST FORWARD SUPPORT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01400" y="3198960"/>
            <a:ext cx="1652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S PERSON:   C. Atki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160" y="3429000"/>
            <a:ext cx="671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4480" y="3579840"/>
            <a:ext cx="512820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RMS: 2/10, N/30                                       FOB:   DESTINATION                  DATE SHIPPED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33720" y="36194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038480" y="36194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4120" y="4037040"/>
            <a:ext cx="529740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IP VIA:   TRUCK                                                                                         OTHER: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038480" y="40766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7720" y="4522680"/>
            <a:ext cx="470304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TEM             DESCRIPTION                             QUANTITY              PRICE 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3808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3844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5284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4800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4840" y="7661160"/>
            <a:ext cx="219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cript"/>
              </a:rPr>
              <a:t>Thank You For Your Ord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0520" y="8004240"/>
            <a:ext cx="2624400" cy="575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All documents are date stamped w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d. The vendor’s format may vary from th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ample, however, regardless of the format, the s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ic information must be display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03560" y="7694640"/>
            <a:ext cx="1832040" cy="10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RCHANDISE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EIGH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160" y="7620120"/>
            <a:ext cx="671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0960" y="4875120"/>
            <a:ext cx="5130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             RENTAL OF 35HP GENERATOR     5 DAYS              $22.50/DAY   $112.50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99280" y="6305400"/>
            <a:ext cx="1370160" cy="545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 JUNE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7920" y="7694640"/>
            <a:ext cx="1628640" cy="10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12.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12.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20080" y="5013360"/>
            <a:ext cx="28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rial Number G19015M109          (22-26 May **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8853480"/>
            <a:ext cx="580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AK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69040" y="6172200"/>
            <a:ext cx="4067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PDD:   30 MAY ** + 10 = 9 JUN ** (Late ECPD 15 J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68560" y="6553080"/>
            <a:ext cx="2627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D:         5 JUN ** + 30 = 5 JUL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424400" y="4584600"/>
            <a:ext cx="985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65840" y="7002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1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58120" y="1022400"/>
            <a:ext cx="146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TO R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67 EVERGREEN D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ICAGO, IL 547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43720" y="1617840"/>
            <a:ext cx="173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RD SIGNAL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44800" y="2255760"/>
            <a:ext cx="144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RT-O-LET R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46320" y="22366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97920" y="2236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.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13720" y="22366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1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04840" y="3841920"/>
            <a:ext cx="161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 5 Jul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808520" y="405144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301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28680" y="4370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9472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67320" y="5318280"/>
            <a:ext cx="361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 - 25CZ SDRN/A141 S09076 $301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414880" y="57834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T.J. Shel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25720" y="601992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731840" y="604512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4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73040" y="690408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e Attac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41560" y="2422440"/>
            <a:ext cx="169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ntal  Period: 22-31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856400" y="4675320"/>
            <a:ext cx="64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3480" y="3184560"/>
            <a:ext cx="1477800" cy="550800"/>
          </a:xfrm>
          <a:prstGeom prst="rect">
            <a:avLst/>
          </a:prstGeom>
          <a:solidFill>
            <a:srgbClr val="cece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3808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AK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33720" y="739152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301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00600" y="760428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301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32640" y="716292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83240" y="7620120"/>
            <a:ext cx="13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Cory, LTC, FC, 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59400" y="7772400"/>
            <a:ext cx="49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.E.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365760" y="912960"/>
            <a:ext cx="1566720" cy="500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TO ROO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567 EVERGREEN DR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CAGO, IL 547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0160" y="1522440"/>
            <a:ext cx="714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LD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0880" y="1827360"/>
            <a:ext cx="178020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TN: 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8760" y="768240"/>
            <a:ext cx="280656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180960" y="836640"/>
            <a:ext cx="2394360" cy="10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UMBER:  1AA-02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VOICE    1 JU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RDER      DAFI01-**-M-1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UMBER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238560" y="106668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238560" y="144792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38560" y="182880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07880" y="2371680"/>
            <a:ext cx="13075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OICE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ST APPEAR O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.O., PACK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IPS &amp; PACKAG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STOMER N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491000" y="2814480"/>
            <a:ext cx="847800" cy="22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A1129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7440" y="2894040"/>
            <a:ext cx="227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IP TO:    UNITED STATES AR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RD SIGNAL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01400" y="3198960"/>
            <a:ext cx="1652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S PERSON:   C. Atki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160" y="3429000"/>
            <a:ext cx="671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4840" y="3579840"/>
            <a:ext cx="503244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RMS:  N/30                                       FOB:   DESTINATION                       DATE SHIPPED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36194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36194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04120" y="4037040"/>
            <a:ext cx="529740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IP VIA:   TRUCK                                                                                         OTHER: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40766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7720" y="4522680"/>
            <a:ext cx="470304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TEM             DESCRIPTION                                QUANTITY           PRICE 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3844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55284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4800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4840" y="7661160"/>
            <a:ext cx="219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cript"/>
              </a:rPr>
              <a:t>Thank You For Your Ord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0520" y="8004240"/>
            <a:ext cx="2624400" cy="575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All documents are date stamped w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d. The vendor’s format may vary from th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ample, however, regardless of the format, the s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ic information must be display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03560" y="7694640"/>
            <a:ext cx="1832040" cy="10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RCHANDISE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EIGH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160" y="7620120"/>
            <a:ext cx="671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13400" y="4875120"/>
            <a:ext cx="5171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             Rental of Port-O-Lets                                10                    30.15          $301.50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99280" y="6305400"/>
            <a:ext cx="1370160" cy="545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 JUNE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57920" y="7694640"/>
            <a:ext cx="1628640" cy="10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301.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301.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22600" y="5013360"/>
            <a:ext cx="174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ntal Period  (22-31 May **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3808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AK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1800" y="6400800"/>
            <a:ext cx="2666880" cy="53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68560" y="6553080"/>
            <a:ext cx="2627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D:         5 JUN ** + 30 = 5 JUL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24400" y="4584600"/>
            <a:ext cx="985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65840" y="7002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1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058840" y="1022400"/>
            <a:ext cx="196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RNER MOTOR SUPP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7 E. WASHINGTON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NCINNATI, OH 451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043720" y="1617840"/>
            <a:ext cx="173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91st MECH  IN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44080" y="225576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O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074840" y="223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97920" y="2236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013720" y="22366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9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04480" y="38419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 16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08520" y="405144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239.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743360" y="439884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% 20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9472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67320" y="5318280"/>
            <a:ext cx="361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 - 26EB SDRN/A141 S09076 $237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402640" y="5783400"/>
            <a:ext cx="7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J. Monr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24640" y="6019920"/>
            <a:ext cx="11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tor Pool  Chi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731840" y="604512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7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06760" y="63133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273040" y="6904080"/>
            <a:ext cx="8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 HO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396240" y="6912000"/>
            <a:ext cx="81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B HO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47600" y="696276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7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043360" y="24652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66920" y="2465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585320" y="24652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4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056560" y="2479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9.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046240" y="2679840"/>
            <a:ext cx="14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NDSHIELD WIP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66920" y="26798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642560" y="2684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056560" y="267984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9.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3808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AK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283480" y="3184560"/>
            <a:ext cx="1477800" cy="550800"/>
          </a:xfrm>
          <a:prstGeom prst="rect">
            <a:avLst/>
          </a:prstGeom>
          <a:solidFill>
            <a:srgbClr val="cece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133720" y="739152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237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800600" y="760428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237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832640" y="716292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2.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83240" y="7620120"/>
            <a:ext cx="13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 Cory, LTC, FC, 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659400" y="7772400"/>
            <a:ext cx="49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.E.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040280" y="716292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11T10:29:36Z</dcterms:created>
  <dc:creator>Soldier Support Institute</dc:creator>
  <dc:description/>
  <dc:language>en-US</dc:language>
  <cp:lastModifiedBy>Administrator</cp:lastModifiedBy>
  <cp:lastPrinted>2000-07-14T19:33:57Z</cp:lastPrinted>
  <dcterms:modified xsi:type="dcterms:W3CDTF">2005-04-07T15:49:19Z</dcterms:modified>
  <cp:revision>22</cp:revision>
  <dc:subject/>
  <dc:title>No Slide Title</dc:title>
</cp:coreProperties>
</file>